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2BD-BAFB-4F63-A6BD-FCB3AA62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862-EE9E-4ED7-8DD1-9ED68C71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A2B-977A-4DCD-8C93-66F55889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712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700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88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712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700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6FF-C7DF-4138-8F93-0CA08CDF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F86-FF6D-424E-8858-79B16BFE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E255-FF1A-4B58-8F45-16B9C04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F586-4D13-4719-8E2C-DA4C371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8C13-5569-489C-85A8-BEFAB162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6298-1C3A-4B1C-B039-02CC18DD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880" y="35053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63EF-EA3A-482D-A0F6-27CF3433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B8B-64A0-4181-A591-3FBE51B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671-3F91-4A7C-BEFF-FEED841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63F-A336-456D-B386-78C3F68F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9C67-D29D-47E4-B036-E64FFE6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232A-9DCD-46DF-B0E0-E994323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442E-1417-4F6E-98AD-E367D72A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712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700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88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712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700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B477-EB51-4835-8590-FB09B677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BCF-BF34-479E-AE83-8C17460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36D-3452-4F82-A2B2-AECFE98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483-44F4-4176-A470-1507DE4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880" y="35053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6B3-9FD1-4019-966F-708A52A2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0E4-580F-48B2-8AAC-9A71E4D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D94-63E0-46BA-8F89-FFE0C491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0C6-FDDD-41CF-9EBB-3452A49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817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817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6989-64CD-4636-8B03-A82A76504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817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817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A0B6-FD41-4F80-901C-3023B1503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9817e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9817e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9817e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10:56Z</dcterms:created>
  <dc:creator>Bonnie Ritchey</dc:creator>
  <dc:description/>
  <dc:language>en-US</dc:language>
  <cp:lastModifiedBy>Bonnie Ritchey</cp:lastModifiedBy>
  <dcterms:modified xsi:type="dcterms:W3CDTF">2004-05-21T03:11:4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51033</vt:lpwstr>
  </property>
</Properties>
</file>